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34595"/>
        <c:axId val="21879334"/>
      </c:barChart>
      <c:catAx>
        <c:axId val="77434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79334"/>
        <c:crosses val="autoZero"/>
        <c:auto val="1"/>
        <c:lblAlgn val="ctr"/>
        <c:lblOffset val="100"/>
        <c:noMultiLvlLbl val="0"/>
      </c:catAx>
      <c:valAx>
        <c:axId val="21879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34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EEC-32DE-482F-A158-B6278A80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871-D0F1-4B94-971C-9FAA8CA9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D93-199D-4F4A-BCA5-E389DA85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020-EB64-439E-A046-75A8E86D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CD5-3A49-4DB7-A112-F27915BF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F1F-74C0-4640-A34B-E29AFBE0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A6A-1F26-4ED2-878B-E651E019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C7C-4215-476E-8573-B6832F63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70C-8436-422F-84C4-7C342BA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CED-4C1C-4C2F-8C87-66940D25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901-F7DC-4FA3-9DF3-1628417D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42A-CD9F-473D-B0B0-134BAA9F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CDC39-B297-4AD3-81D9-2E96ED26F6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