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75826"/>
        <c:axId val="55395521"/>
      </c:barChart>
      <c:catAx>
        <c:axId val="40175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95521"/>
        <c:crosses val="autoZero"/>
        <c:auto val="1"/>
        <c:lblAlgn val="ctr"/>
        <c:lblOffset val="100"/>
        <c:noMultiLvlLbl val="0"/>
      </c:catAx>
      <c:valAx>
        <c:axId val="55395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75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886-B90B-46BA-A6E4-0C14E42F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7DF-AD5B-485B-A924-01C99AC1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BBF-E2E4-4D14-A247-9DF0CB296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33B-2FB8-4048-BA70-1B67CACA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54A-47B7-4340-B957-66B6863E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169-216C-4BBD-A5C5-84DE708C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BB1-2D46-4C21-BAD3-9BB1195F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BAA-CB6D-4E7F-86FA-2EEC7EF5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136-30CF-4FFD-B188-F9D63740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4E1F-C522-430A-B40D-C114BB17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665-28DB-496D-BF84-F30EB6CD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CCB-E90C-40B7-95DC-BA4857EB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091BF-9436-4894-BE84-C34CB8D83D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