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515653"/>
        <c:axId val="99787754"/>
      </c:barChart>
      <c:catAx>
        <c:axId val="275156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87754"/>
        <c:crosses val="autoZero"/>
        <c:auto val="1"/>
        <c:lblAlgn val="ctr"/>
        <c:lblOffset val="100"/>
        <c:noMultiLvlLbl val="0"/>
      </c:catAx>
      <c:valAx>
        <c:axId val="997877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5156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3776-6CB6-4257-9C3F-1A7E73997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C929-8C8A-44FE-B75E-A3480DD1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9DE9-EE5B-4E23-9FD2-9FB9B4DCF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5F16-64E1-47F0-AACF-EF27FD18A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65DD-4195-424F-AC3E-0E949395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2F3A-B8A7-4988-9078-9F19EDE5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12C4-8380-421B-A9C4-4B39C768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5CFF-CDBD-4F3E-A828-93775734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8445-0F4D-46B4-A37F-FCDC30AF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E167-02A3-4516-8E21-C0A4D955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6D0F-A1EE-4CBB-AA08-5CDD1E4A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C4F9-6D3C-4739-8F4B-6CA9412B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8D992-F223-4971-84F6-599A828BBA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