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00306"/>
        <c:axId val="68652343"/>
      </c:barChart>
      <c:catAx>
        <c:axId val="450030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52343"/>
        <c:crosses val="autoZero"/>
        <c:auto val="1"/>
        <c:lblAlgn val="ctr"/>
        <c:lblOffset val="100"/>
        <c:noMultiLvlLbl val="0"/>
      </c:catAx>
      <c:valAx>
        <c:axId val="686523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0030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4B958-3D15-4AE0-8174-DE6DAF1C1C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3BD5-244E-4CA7-BED9-F861A9E11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DAA5-95CC-445D-A0E1-3E08D474B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DD60-05B7-4A94-AAEF-96FBC0B5F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2F36-E656-478C-AF1B-3CC8C9F0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2FA42-E474-4995-9C9E-3F04C7AFC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2983-2E10-4FA9-9FEB-7985CF962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70B3-D05C-4024-B514-B4E385E77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A3BE-B8D8-4C44-AE52-0558D515BB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F42FB-0B4C-41D1-B5F7-62F02BAEF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ABD0D-E3D6-4669-81A2-1BD265F5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5E89-E56B-4C94-97B4-0F43E3B33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874672-9DF9-4951-8CA9-3BEC546401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