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790037"/>
        <c:axId val="79788626"/>
      </c:barChart>
      <c:catAx>
        <c:axId val="597900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788626"/>
        <c:crosses val="autoZero"/>
        <c:auto val="1"/>
        <c:lblAlgn val="ctr"/>
        <c:lblOffset val="100"/>
        <c:noMultiLvlLbl val="0"/>
      </c:catAx>
      <c:valAx>
        <c:axId val="797886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7900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DB37-E060-4EDD-AD4B-F85F69822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AD74-4D45-4003-A892-7FEADD1D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2B67-6C9E-4C91-A92A-AAA4CB0FA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472D-62A4-435B-A43E-D919E63AB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AC65-3817-4AA0-ADD3-7C8E28A3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2AFB-420E-47A7-B254-FF010269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BB19-2FDA-45E0-AC24-D9343286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C8CF-DC66-4F5E-A90D-FBF6BE47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D263-2905-4C3C-8931-903E7EA9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4AE7-4385-4B6E-953C-41A7F666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032C-A728-414F-8FD1-32EF9B96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6B04-1CE6-4269-805C-FFD990EF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6C577-485E-4699-BE16-1D0F94BCFE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