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4603"/>
        <c:axId val="78558275"/>
      </c:barChart>
      <c:catAx>
        <c:axId val="4954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8275"/>
        <c:crosses val="autoZero"/>
        <c:auto val="1"/>
        <c:lblAlgn val="ctr"/>
        <c:lblOffset val="100"/>
        <c:noMultiLvlLbl val="0"/>
      </c:catAx>
      <c:valAx>
        <c:axId val="78558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4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660-9985-4317-800A-AD307281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A0E-687B-4418-B84E-FF0B7899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429-D168-4825-8329-6160FCD7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8FF-A23F-4667-A38E-0F240BF3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09F-E233-4E08-9060-D915205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9B0-08C7-43DE-AB0E-89709F0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DD0-33C3-41D7-9392-F04CCE0B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BB4-5097-48DD-A36A-4132A78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8A3-AD36-4E05-8422-154BF2C8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6A6-5E97-4537-B070-7D2E2ED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F0A-3F47-4458-A1A7-40FF201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049-4360-4824-82CE-C2F9A65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BD090-2F5D-416B-89E2-BFBFFB3E0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