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56403"/>
        <c:axId val="82883675"/>
      </c:barChart>
      <c:catAx>
        <c:axId val="17556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83675"/>
        <c:crosses val="autoZero"/>
        <c:auto val="1"/>
        <c:lblAlgn val="ctr"/>
        <c:lblOffset val="100"/>
        <c:noMultiLvlLbl val="0"/>
      </c:catAx>
      <c:valAx>
        <c:axId val="82883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56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06B-1FB5-425F-BE77-08D1C562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77C-1006-41DD-80F1-3CE8548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591-CBC6-4C1A-9D5C-337B30C8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C4B-B764-43F4-BD28-5984FB73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29E-7C0A-4D28-93F7-98310E76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594-0D44-4D45-AF9B-638E9071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FB2-DBFF-4117-9C43-816EF762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174-37ED-4C39-914D-DA42F678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228-E808-4B42-8D41-75BB5B60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086-1C83-4F1A-9EEF-99B5E1D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DB3-5855-493D-91F0-CA11811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CA2-A499-48E4-9431-16782589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FCA2E-E20F-4B53-B4AE-5073948945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