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46583"/>
        <c:axId val="89241341"/>
      </c:barChart>
      <c:catAx>
        <c:axId val="66246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41341"/>
        <c:crosses val="autoZero"/>
        <c:auto val="1"/>
        <c:lblAlgn val="ctr"/>
        <c:lblOffset val="100"/>
        <c:noMultiLvlLbl val="0"/>
      </c:catAx>
      <c:valAx>
        <c:axId val="89241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46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499-A9D9-47AB-BCFA-F286AE8D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A7D-CF34-435B-993C-53141CE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2FE-6865-4CA6-A244-2DC778B1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8EC-C9A8-4DC4-9AF5-1593FC7C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D2C-43F8-40B4-AFDA-160ACFC8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58D-ACFC-4E7B-81CB-D6FD77B7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629-253E-408D-BE31-88D3806D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E9F-B355-460A-84AB-E9A25E4E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0EE-1C93-4775-B276-086CB29F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445-63EE-4501-BD07-2943B4D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0F3-EB7F-4E59-9DA3-708B4E4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98D-47B7-4A94-B115-6944561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10E22-A903-4244-9E7F-5081DA9AF5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