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63747"/>
        <c:axId val="75624944"/>
      </c:barChart>
      <c:catAx>
        <c:axId val="363637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24944"/>
        <c:crosses val="autoZero"/>
        <c:auto val="1"/>
        <c:lblAlgn val="ctr"/>
        <c:lblOffset val="100"/>
        <c:noMultiLvlLbl val="0"/>
      </c:catAx>
      <c:valAx>
        <c:axId val="756249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637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6E3-58C1-4968-942F-90EAB794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C1D3-2A35-471A-A393-DEB6B35D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B65A-2839-4AE5-868D-E0042348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D89-89C9-47E5-89FA-646896C3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08F3-E7D7-4B4C-A7FD-B3C5506D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114-6EF6-4EFD-9247-E46D4C12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72F-03EF-4A39-B93B-7D5F4426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EC0-06E4-41F9-90E9-C136A29C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4EC3-2D58-44B0-9DD7-5F1F80F6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752-304E-4A2D-915D-9D2C8468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9F0-15F2-4AF6-85AE-286DF813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2080-D8FA-4FE3-9460-2F1E989D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FD653-48EE-4AEC-9E31-446E085178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