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70922"/>
        <c:axId val="92268793"/>
      </c:barChart>
      <c:catAx>
        <c:axId val="96370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68793"/>
        <c:crosses val="autoZero"/>
        <c:auto val="1"/>
        <c:lblAlgn val="ctr"/>
        <c:lblOffset val="100"/>
        <c:noMultiLvlLbl val="0"/>
      </c:catAx>
      <c:valAx>
        <c:axId val="92268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70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B10-FC46-48EB-9FE1-0BE5EA5A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CA0-08B9-416D-A525-4F2DB98B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285-390F-40A1-8EDE-4B6C8988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C19-C9E2-40AD-80F9-78157129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6E4-CAAF-4CAA-B1ED-D2827FA1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D1A-A0D3-4BD7-83CA-89397109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F5B-0D1B-4B07-906A-98FE54B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EC0-BB85-4BEB-8AA1-99FB18C5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C55-293D-4727-8011-6AE22186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BB2-0D5E-45CB-8F65-7F7AB19C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6E5-465A-4C89-A438-191B8C57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F63-F268-4F55-933F-5EABE778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6A938-3471-4CAB-B140-3BA5040012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