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04700"/>
        <c:axId val="45584989"/>
      </c:barChart>
      <c:catAx>
        <c:axId val="74404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84989"/>
        <c:crosses val="autoZero"/>
        <c:auto val="1"/>
        <c:lblAlgn val="ctr"/>
        <c:lblOffset val="100"/>
        <c:noMultiLvlLbl val="0"/>
      </c:catAx>
      <c:valAx>
        <c:axId val="455849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04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C52-3347-4DAE-8D4E-25A99BB9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505D-1FE7-4A8A-B92E-528A2D35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AA7-0C71-4B1E-B856-91563D91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E24-E1C3-4BBB-A97A-CB32F6D7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8E5E-BCCD-4B80-95A9-BAFCD0DC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D948-ACBE-450A-A940-5C317801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B7C-398F-42B8-9A16-CA9C006D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38D-97AE-43B0-9E07-4EA15BF6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1352-F1FF-4AA3-A3F3-3CE16F48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C966-2FDC-479B-B519-FB917670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F6B-8752-404B-9790-B618B6B0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DB33-1C57-4620-8906-90548636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508DC-7C1D-4DBB-AD14-C7B1C4414E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