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33974"/>
        <c:axId val="68591463"/>
      </c:barChart>
      <c:catAx>
        <c:axId val="65033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91463"/>
        <c:crosses val="autoZero"/>
        <c:auto val="1"/>
        <c:lblAlgn val="ctr"/>
        <c:lblOffset val="100"/>
        <c:noMultiLvlLbl val="0"/>
      </c:catAx>
      <c:valAx>
        <c:axId val="68591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33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B60-71E4-4C73-8A59-8CE47A03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742-51D9-4514-AD13-48320B57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C66-6E3B-43D3-831D-CBD00BAE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0C7-FDC6-4231-A21C-860511E3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BD8-8C14-4C2F-B6FA-1F7158B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0D3-D7A3-4FE4-B272-7F93CC52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74C-BAE7-4765-9953-7EEE277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02A-9BEF-4175-A419-A35032E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270-30C5-4D61-B577-BE84812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DB7-64B4-4052-ACAA-61EBD41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A6B-C680-477E-AB57-92316C19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F9C-F9E2-483D-8F91-9889EE1A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F2FD0-C5DF-440B-B9CB-8C422EEF4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