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69352"/>
        <c:axId val="13106459"/>
      </c:barChart>
      <c:catAx>
        <c:axId val="82669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06459"/>
        <c:crosses val="autoZero"/>
        <c:auto val="1"/>
        <c:lblAlgn val="ctr"/>
        <c:lblOffset val="100"/>
        <c:noMultiLvlLbl val="0"/>
      </c:catAx>
      <c:valAx>
        <c:axId val="13106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69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51E-D48F-40FA-B4BB-27DA65FE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DD7-7F53-4F11-AB05-5EB8A2F7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47A-44D5-4315-8A11-96EBC972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A19-D8C0-4FD9-A1EE-BCB5DA19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DB6-BE54-41B6-8B39-4B1EEFFA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AF5F-8A15-4F88-927F-BCB600C8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72A-A9D7-42E5-8C7B-8BF31F04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929-818F-4A46-B56B-B0B9C9A1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CF2-2E2E-4E60-932C-DB92BD2A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369-251F-4C9B-A658-C3105B88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34F-D09F-42B3-AC2C-B755E07D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ACB-DD7B-42C6-9528-6F63083C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874CF-3FA3-4D6D-94F8-2FD1D18959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