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667164"/>
        <c:axId val="26579254"/>
      </c:barChart>
      <c:catAx>
        <c:axId val="776671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79254"/>
        <c:crosses val="autoZero"/>
        <c:auto val="1"/>
        <c:lblAlgn val="ctr"/>
        <c:lblOffset val="100"/>
        <c:noMultiLvlLbl val="0"/>
      </c:catAx>
      <c:valAx>
        <c:axId val="265792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6671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C237-B6EB-4006-8E1B-9150D047B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B21A-5EAF-41A8-8598-6F563940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ECEA-2325-474D-9E1A-F119486B3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8F61-D170-4B75-93F9-639D9509B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B422-C240-4671-8939-BAE4370B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8D39-8976-4ACD-99E4-DBB349C2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0EDE-7F01-446E-9B58-3F00C364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CAD8-4545-4C77-B148-04ADEBE1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0072-34AE-4F61-B1A6-AFD0A0F2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DC34-2884-4336-8F62-BBFDE4A2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8472-E9EB-4275-848E-173F301D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00CF-F30F-4172-B993-DB1A5B91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8B910-816C-431D-95C8-84DEC4E522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