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27103"/>
        <c:axId val="43318573"/>
      </c:barChart>
      <c:catAx>
        <c:axId val="19927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18573"/>
        <c:crosses val="autoZero"/>
        <c:auto val="1"/>
        <c:lblAlgn val="ctr"/>
        <c:lblOffset val="100"/>
        <c:noMultiLvlLbl val="0"/>
      </c:catAx>
      <c:valAx>
        <c:axId val="43318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27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77B-EAC3-49BD-85D8-503C66F8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D90-5B19-48C2-ADEE-9075CF15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00B-2A80-4D49-9123-3E414B4C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E26E-6D2C-484C-84CF-4B1808B9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6EAD-8218-46DE-A8C3-A5C63AD8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E659-661B-4954-9578-A53DD26F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141-D0AE-4890-A2F4-7A33A6F0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DF7-7FDB-41EC-85D7-55365B30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A6C-BC4E-4211-96A0-DC70B977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B57-1BAA-47C5-A7D1-3D5BA69F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0BA0-B1F7-4DF6-A035-EFAA6B88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126-0F96-4AA6-9051-34BEF569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CB271-9F75-4182-85D6-40B71F07A9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