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09251"/>
        <c:axId val="61157724"/>
      </c:barChart>
      <c:catAx>
        <c:axId val="25609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57724"/>
        <c:crosses val="autoZero"/>
        <c:auto val="1"/>
        <c:lblAlgn val="ctr"/>
        <c:lblOffset val="100"/>
        <c:noMultiLvlLbl val="0"/>
      </c:catAx>
      <c:valAx>
        <c:axId val="61157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09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DE2-39D0-4F97-889A-1A1E9D56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4A5-6532-461E-9FCD-EB18EA07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4C1-F056-4250-8252-DABE02F3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453-03D2-4C49-B429-FC19464F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588-2EEF-4740-ACE7-0F04A899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0723-6C9C-46DA-A4CF-40977E56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002-7623-44F1-AF88-7B57338B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754-1A29-4902-A6A8-300FC942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649-439C-4B2D-8738-A0E8BEA2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6259-4EC4-4310-989E-4D6F7B1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6E2-229D-4BB7-80FB-24127E03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9FD-9FAB-4172-BC0A-ECB52CE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4E054-1248-4F01-931D-1306F99701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