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35529"/>
        <c:axId val="94085705"/>
      </c:barChart>
      <c:catAx>
        <c:axId val="32535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85705"/>
        <c:crosses val="autoZero"/>
        <c:auto val="1"/>
        <c:lblAlgn val="ctr"/>
        <c:lblOffset val="100"/>
        <c:noMultiLvlLbl val="0"/>
      </c:catAx>
      <c:valAx>
        <c:axId val="94085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5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0BD-4B5D-48C0-BC57-BA7B5F49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BCD-EF54-4649-B833-A4D0C157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680-86F3-4495-8C2B-7BAE5924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98C-2186-4D5C-A4F4-D4854AAD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BBA-8113-4D19-BB15-6BD63ECF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02A-ADC2-4511-BDF4-10157068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F00-EFF3-4EC2-B9C9-EF69894D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FEC-984A-429C-9A45-C8873467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3A2-AE89-4D0F-A75E-1827A12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8FE-6F4F-4E83-BAAE-A000E3B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AE4-CBA2-4D09-927D-4B6E620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7C6-AB0A-42F7-9F84-1E72578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1C209-97A4-4C8C-9915-619390D72B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