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27945"/>
        <c:axId val="85030162"/>
      </c:barChart>
      <c:catAx>
        <c:axId val="11227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30162"/>
        <c:crosses val="autoZero"/>
        <c:auto val="1"/>
        <c:lblAlgn val="ctr"/>
        <c:lblOffset val="100"/>
        <c:noMultiLvlLbl val="0"/>
      </c:catAx>
      <c:valAx>
        <c:axId val="85030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27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D9A-B7D1-4599-8091-132FC3B0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AEF-930D-40D8-928D-C1EAE3C7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8F4-3C3A-4C88-AC9C-870978CA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190-86C1-4B42-B7B2-7C22161D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6C7-FFA7-49F6-A101-C1AEC2B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DA8-B325-4F77-AA6D-8405624B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464-9776-427C-88FE-41400616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63A-384D-4B5F-8C84-845C7B33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F3C-8301-40DB-8F24-698F50D9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D3C-7DE4-4083-85A6-77E28265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FF7-3441-45DD-9A83-CF1594BC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ADA-9282-4A65-A698-D64A90D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5F809-50E5-44EC-918A-0CB1998A9C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