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11992"/>
        <c:axId val="97267179"/>
      </c:barChart>
      <c:catAx>
        <c:axId val="447119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67179"/>
        <c:crosses val="autoZero"/>
        <c:auto val="1"/>
        <c:lblAlgn val="ctr"/>
        <c:lblOffset val="100"/>
        <c:noMultiLvlLbl val="0"/>
      </c:catAx>
      <c:valAx>
        <c:axId val="972671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119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F89-8EDC-46BE-AEF6-0FF25FF3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2D2D-E9F0-43DA-AD02-4FFD48FC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6502-6CE4-4533-88A7-155FD3EE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38E-A2BD-4230-9299-FBEE1FF1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BE20-DE23-4D2F-BEE3-E76E3499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5CCD-3EB1-49EE-90E3-8481A7C3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D86-D47D-4868-90E1-0157A7C2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9A07-350D-449D-B93E-FAEFD98E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413A-4ADA-44B8-9295-1A98171F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39B-DE61-4B12-B134-EC32B411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2A4F-3862-4214-8E66-82CF2DB2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109C-DA47-49B0-AE55-93DF4E1D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7EA9B-5CAA-4DDA-B1A2-E5CB748193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