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28015"/>
        <c:axId val="9666128"/>
      </c:barChart>
      <c:catAx>
        <c:axId val="31428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6128"/>
        <c:crosses val="autoZero"/>
        <c:auto val="1"/>
        <c:lblAlgn val="ctr"/>
        <c:lblOffset val="100"/>
        <c:noMultiLvlLbl val="0"/>
      </c:catAx>
      <c:valAx>
        <c:axId val="9666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28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6D3-D7D8-45F6-AB68-C82CB0B6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87A-AC8C-4259-A86C-935977C8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3C5-9BF3-4E6D-A0C5-C58407EC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2B2-EEF0-4984-BD0D-ED8B80BC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C3E-969B-4F33-A2CB-AE3A01B9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1BB-3826-4DE1-AF12-273C4618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F6C-E39D-4E90-896B-2937DD00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728-39B3-429D-BD36-CD30FDD3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BE5-0143-4F07-85FB-6B3399E6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945-EBAF-4197-A525-3BEF1195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DBA-D44A-4AE6-9857-5CFA5C09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A16-F530-4777-BC8A-1DFAC19B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2530C-3B52-413B-B8DC-3D8C182CF5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