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1476"/>
        <c:axId val="51742057"/>
      </c:barChart>
      <c:catAx>
        <c:axId val="9091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42057"/>
        <c:crosses val="autoZero"/>
        <c:auto val="1"/>
        <c:lblAlgn val="ctr"/>
        <c:lblOffset val="100"/>
        <c:noMultiLvlLbl val="0"/>
      </c:catAx>
      <c:valAx>
        <c:axId val="51742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1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1A2-7E46-45AB-940E-D7109AC6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142-737D-4127-9789-757B62A8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26F-A07A-4ED6-92A0-2DD66B25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D40-C7B6-4893-B1C5-F7EA6E74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31E-9D9D-49FB-8EC7-6F23A732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96E-BB70-4B7E-A101-A0399CB8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51F-5F44-47FA-B784-1B1C9F43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08C-6B1B-4BB5-A19D-560B8F33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81F-1BF0-4ADE-88E1-271F157E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618-55EC-40AE-B226-0AB670C4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7C8-EE67-4FE4-9151-035A77A6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5E1-0449-413E-8758-87E0B6DB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3AAC0-3911-4421-B760-E03505DC4C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