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83517"/>
        <c:axId val="2633675"/>
      </c:barChart>
      <c:catAx>
        <c:axId val="63683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3675"/>
        <c:crosses val="autoZero"/>
        <c:auto val="1"/>
        <c:lblAlgn val="ctr"/>
        <c:lblOffset val="100"/>
        <c:noMultiLvlLbl val="0"/>
      </c:catAx>
      <c:valAx>
        <c:axId val="2633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3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34C-0B1F-4A78-8215-ACB887D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493-7A9B-4F86-90C6-03F8DC84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E1E-6650-4101-AF11-52F13746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D22-B1C2-412A-BB82-4BC1519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F8C-8BCA-4249-B3C7-C3E2C321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805-1D12-443F-BCB9-6FD3393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D37-2E8C-4D7F-BA29-44EFBF3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7ED-3F68-4480-BA96-BC25B2C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648-4DB9-4FD4-8C4E-8418118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F58-8992-456E-8F5F-B37DDCC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833-CEB9-41CE-A3FD-66E2284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288-8DFB-47C5-A5EA-95306A5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8CE49-33C3-4621-8785-EC4FEDE12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