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67977"/>
        <c:axId val="21857808"/>
      </c:barChart>
      <c:catAx>
        <c:axId val="47667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57808"/>
        <c:crosses val="autoZero"/>
        <c:auto val="1"/>
        <c:lblAlgn val="ctr"/>
        <c:lblOffset val="100"/>
        <c:noMultiLvlLbl val="0"/>
      </c:catAx>
      <c:valAx>
        <c:axId val="21857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67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05C-CC4E-4A1B-9077-E85407F8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231-A9E6-48E0-90C2-4E74B3E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6EE-2A7E-4F3F-B1A5-3FBBFF6D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404-FD77-4ECE-A720-CE4FAB78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738-75E3-4D85-9AD8-0E1C0A98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1F3-537D-4290-83D1-F7171B3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45D-A379-4CDD-ABFA-9D237E17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70B-2B4C-4567-81E4-9F84D6D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106-29A7-4656-AC7B-AC6F38BC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471-9295-4C04-A99B-3C5C222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EDD-1482-479F-97A6-1BC9B87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7E3-9E62-4631-A5FC-788CD7EB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80714-E0BF-456B-BC21-6658C2C26A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