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098195"/>
        <c:axId val="81433219"/>
      </c:barChart>
      <c:catAx>
        <c:axId val="110981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33219"/>
        <c:crosses val="autoZero"/>
        <c:auto val="1"/>
        <c:lblAlgn val="ctr"/>
        <c:lblOffset val="100"/>
        <c:noMultiLvlLbl val="0"/>
      </c:catAx>
      <c:valAx>
        <c:axId val="814332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981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F89E-145F-424D-896A-37EDEA418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DA7E-BCCC-482F-BA93-B8D0FFB8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1752-6514-46D1-BA06-32C0316AD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7D14-9C05-4D9F-84BB-D7983B71E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EE36-2553-4098-A839-28EF2CE2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A00C-C4D8-4A36-9511-6A2B593A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D32F-028C-4197-8DEF-7036336F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780B-AD2A-45DA-88BC-99D6C11D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576C-A44C-4C2B-A2CD-21E9DF3C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DAE1-E793-437F-8CB8-20B586C7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0069-8F5A-427F-9F46-9D8D4F34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7350-75CC-4B04-81D2-2B5B34D5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C708D-BA37-408E-A645-385A50E5F3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